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093-9340-473A-BA1D-5CCEE489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A5E-AFE1-48F2-B0BB-76F19251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8CE-2250-4B60-8222-5A3C86E2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D4F-AED4-4B54-BA95-C406C644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F73-9F8B-4C0E-A731-58F0094B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32A-45C7-4248-ADC7-116047EA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023-AFE4-4F64-B771-1220B7F5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6A0-97D1-49C3-BC6F-C25D8FCD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F4B-FE0A-480A-ADC2-D7FA10FA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F8D-FFC0-42AA-8039-C7A5458D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A71-0423-4473-A454-9265C594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638-FE72-42BC-A91E-B130860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5AEF-1F3F-41B1-885E-E51B81B6F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for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ud/ice masking (Steinar / Ow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ght separation of clouds and ice (Steinar); ice detection using only IR channels (Ow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ce in capability to mask water from ice/clouds on daytime, twilight and nighttime (Stein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rm water from rivers outflows where the water temperature can be 10 K warmer than the prior SST (Ow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s/solu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an ice class to the Bayesian cloud detection (Ow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the Bayesian cloud detection so it is less reliant on the prior/NWP SST, change the assumptions about prior SST error in coastal regions (Ow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ifference between Steinar and Owen’s Bayesian cloud/ice detection methods : use of clear air RT simulations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NWP-based RT simulations in the Arctic (Pier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blem in our OSI SAF METOP prototype : adjusting brightness temperature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s based on OSTIA foundation SSTs are very difficult to compare with observations, since foundation SST is very scarcely observed from space in low wind and permanent solar illumination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s/solu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drastic wind filtering before adjusting brightness temperature simulations in the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S to write a paper on 7 years of METOP-A Arctic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(?) to build up a profile data base adapted to Arctic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S to prepare regional high latitude algorithms as a back-up to simulation-derived BTs for METOP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S and DMI to compare METOP biases (derived from NWP simulations and from Jacob’s SST correction 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T algorithms in the Arctic (Jaco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ST products (AATSR, AVHRRs and AMSR-E) have in general larger errors in the Arctic, compared to Global and Southern Ocea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ases generally depend upon Solar Zenith angle and TW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VHRR biases found in operational products as well as CCI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gional AVHRR coefficients can improve biases, largest improvements in daytim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tic NWP profiles with “large SST errors” are more humid and warmer than profiles with “low SST erro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s/solu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 up the paper on CCI high latitud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MMS to further examine NWP in relation to SST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lect in-situ data set for high latitude Arctic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velop MW OE Sea Ice  and SST processor for AMSR-E and AMS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-based SST retrieval in the Arctic (Ch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rrors in RT simulations can arise from surface temperature errors, RT model errors and/or NWP profiles errors (idea about NWP errors in the Arctic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rror covariance of RT simulations is not well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s/solu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as tolerant” approaches for SST retriev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ified Total Least Square (Prabhat Ko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the OE retrieval “bias a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0:07:45Z</dcterms:created>
  <dc:creator>cms</dc:creator>
  <dc:description/>
  <dc:language>en-US</dc:language>
  <cp:lastModifiedBy>cms</cp:lastModifiedBy>
  <dcterms:modified xsi:type="dcterms:W3CDTF">2013-12-18T11:57:39Z</dcterms:modified>
  <cp:revision>15</cp:revision>
  <dc:subject/>
  <dc:title>Session 1</dc:title>
</cp:coreProperties>
</file>